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5.wmf" ContentType="image/x-wmf"/>
  <Override PartName="/ppt/media/image24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23.wmf" ContentType="image/x-wmf"/>
  <Override PartName="/ppt/media/image17.png" ContentType="image/png"/>
  <Override PartName="/ppt/media/image16.gif" ContentType="image/gif"/>
  <Override PartName="/ppt/media/image2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8A4-3B03-4561-9F07-E52DB60A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271-801E-4ABB-941F-7F42CF26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C4A-B35E-48B9-ACDF-C5B8E38E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332-6AEB-46C6-901D-DDF0737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101-ED49-43F6-9D1E-1530C495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310-7474-4CF1-AFD9-6F4E6DE1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341B-2BEF-40EC-B89E-93AE73A2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6803-5AF7-402B-BFB0-F764A80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D536-63DE-4B0C-A46C-BA62AC91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68BB-4329-4AED-86D1-5A69ADE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7BAA-F205-4C34-B00A-1811B1D3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C0D-09FE-4AA3-8C4E-6F4C9C82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6F77-0B16-47BC-A929-230C38F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754-3B19-4B9A-BFD2-366C670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C7BA-61DA-45A2-8CAB-1371146B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7A97-6E44-4763-9656-9667D49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1055-55D3-4FAD-9D58-F413D8A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D5E-6FB0-4E49-9E22-8083F1BE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524-BC54-4FA5-9714-5CC363CD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2519-B08E-4275-A45C-6084F030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B062-F8BA-4D0E-B083-37490EFE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EE6A-A0F2-45BC-A37B-6D8E8FCC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0A48-9955-45D4-B9CA-6E2EF6B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8F4D-77C1-46C9-974F-AF9CE52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04F-BB8C-4FEF-88EF-CC240E76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8EB3-DDFD-42B5-914B-8B04DB35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BA06-F3CF-4705-AB70-4EA62DA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B582-19C7-41B4-BB02-B2931DAD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AF3B-14AB-4645-9D11-E4B49A0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85D7-000C-417B-AF7F-2A8C7BD8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D45F-0FC7-4D67-84BF-5FD27E39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574D-89A6-469F-B2CD-828D1B05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6D45-2F63-499D-A948-E1D9419B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1CE6-3F18-4BD4-8DDC-A5CDE4D0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BE2B-9B42-43B7-AE28-0BADCB7F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89F-1443-4636-B576-C0181BDE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2D2F-D31E-4C4D-9DE5-070948BC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A521-1B8A-49B8-877A-82247A9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8B90-604A-48A5-AF9A-31B343CC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827D-1172-4123-9DA5-836EA28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3EDCC-D471-42F2-A717-D0CC851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A73E-9696-43A9-BF16-485CA80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13A5-8DF5-46D7-9D39-80D7B31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F444-1BE7-455A-BB68-087E826B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2105-5B29-4383-B261-592DEE2B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1D8BC-9B1F-457F-B29B-9E2656E5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020-CE60-4F59-9A8A-DEE51ECD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1F60-30C4-4863-B445-8A3CE731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AEB3-8CE7-4C47-B88B-970BBDAC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00389-AE1C-4055-A5FA-A4019B2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1979-3BAC-4176-95C6-F526BD6B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4EEA-F572-4353-9FDF-C7655BD0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BB1E1-814C-4CCB-84B7-B23FF96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6D13-17A9-4D63-9A7D-76B0E03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593A-5E29-426D-B949-07F0233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0C2F-48DA-4CDA-8CF5-5470FAC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7EAD9-E68F-4893-89B7-1243D99B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E8E-E1DB-48B5-94EB-430F579B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463C-C4EC-4775-B5E1-69786980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D4AA-4B5C-4CC8-85B5-B4AAB134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B4E7-E608-44AD-B796-B168A72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032E-1439-435F-B6B8-34A97CF2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CE3E-4F97-4DC3-BE4C-47FDAB17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7F75-63A1-46B9-BC73-7C3134D4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86E4-486B-42E2-89A8-5DD9A34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40FB-F5EE-4508-8501-B9DDC1BB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C49C9-CCD0-4B2B-AB5F-F655D1D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8DD21-C6A7-4300-B4CA-5EAAEEFA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953-D38D-49A6-9CDD-D9B4A600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AEAD0-CCA2-477A-9428-C9907D1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AA198-9205-423E-B522-6816A37D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E75D-7088-46E2-BD52-CDAEE67D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5B04-8174-4D05-9C41-EBFB52A6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3834-5BCF-42D6-A29C-11B80E1D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5014-FCAE-4828-8FE2-3A3FA29C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E066-9649-4153-A6B0-8157A40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9798-3DEB-418F-A3A1-641A8464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FD9E2-7374-444B-AB32-50D5564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4C837-12A6-4678-87AD-1C967BF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063-2565-4498-BD95-16C9A0F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2A324-6400-4EE1-803B-E7E3986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2510B-8800-477A-A676-3F80CFE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FCD3C-ADDE-4AEC-8642-A18FAE9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49A85-0F25-4E6C-9B29-73C3F28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836F-3ADC-4998-B471-94C77FEB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3BFF-1C33-4102-8C4C-AA47DF17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B2840-C6E7-4094-AE40-A56A056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C6A81-5484-4BC8-84D9-0D98D6B6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D589-F258-4DE0-81E4-9B00E314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9F8C-646F-4084-8329-768AC87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6BA-6F6A-4811-9676-1193F9C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AA6E-1687-43F5-8167-5AEE927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A76A-2604-48C6-98F6-248039B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C29C-880D-41F0-BF43-67E0F40A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8F0E5-5DEF-4BB3-8160-B307D05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421B-952C-49C6-ADB2-7950FE12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39322-00B8-4F3D-9610-0283D249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866A7-5546-46FE-8C09-34032E44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471-B14F-43A2-98D6-AACDEE9C1E1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09C5-2C9C-4D9F-961D-FDA7F094E66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18D-43A2-42B2-88E5-F56B89FC037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E580-0A42-4194-8EEE-5AD53478FF5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C81-37CC-40B4-B324-C3108E5EBA5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A20E-9733-4DC0-BBFF-7D9CB5EDB5D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8B44-D263-4BB2-9688-EB385947CA1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54B-D6E0-46F3-9C2A-D682B4A9D12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7.png"/><Relationship Id="rId5" Type="http://schemas.openxmlformats.org/officeDocument/2006/relationships/image" Target="../media/image14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WordArt 2"/>
          <p:cNvSpPr txBox="1"/>
          <p:nvPr/>
        </p:nvSpPr>
        <p:spPr>
          <a:xfrm>
            <a:off x="838080" y="99072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RƯỜNG TH VÂN KHÁNH ĐÔNG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0" name="Picture 4" descr="OT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NI-Cooper"/>
              </a:rPr>
              <a:t>PHOØNG GIAÙO DUÏC - ÑAØO TAÏO HUYEÄN AN MIN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990720" y="3809880"/>
            <a:ext cx="7315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2700000"/>
                </a:gra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VNI-Revue"/>
              </a:rPr>
              <a:t>MOÂN KHOA HOÏC LÔÙP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2700000"/>
              </a:gra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VNI-Revue"/>
              <a:ea typeface="VNI-Revue"/>
            </a:endParaRPr>
          </a:p>
        </p:txBody>
      </p:sp>
      <p:sp>
        <p:nvSpPr>
          <p:cNvPr id="363" name="WordArt 7"/>
          <p:cNvSpPr txBox="1"/>
          <p:nvPr/>
        </p:nvSpPr>
        <p:spPr>
          <a:xfrm>
            <a:off x="1295280" y="5048280"/>
            <a:ext cx="67057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VNI-Vari"/>
              </a:rPr>
              <a:t>NAÊM HOÏC 2013 - 2014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VNI-Vari"/>
              <a:ea typeface="VNI-Vari"/>
            </a:endParaRPr>
          </a:p>
        </p:txBody>
      </p:sp>
      <p:sp>
        <p:nvSpPr>
          <p:cNvPr id="364" name="WordArt 8"/>
          <p:cNvSpPr txBox="1"/>
          <p:nvPr/>
        </p:nvSpPr>
        <p:spPr>
          <a:xfrm>
            <a:off x="990720" y="95256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VNI-Cooper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VNI-Cooper"/>
              <a:ea typeface="VNI-Cooper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380880" y="2057400"/>
            <a:ext cx="8382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Revue"/>
              </a:rPr>
              <a:t>BAØI DÖÏ T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Revue"/>
              <a:ea typeface="VNI-Revue"/>
            </a:endParaRPr>
          </a:p>
        </p:txBody>
      </p:sp>
      <p:sp>
        <p:nvSpPr>
          <p:cNvPr id="366" name="WordArt 10"/>
          <p:cNvSpPr txBox="1"/>
          <p:nvPr/>
        </p:nvSpPr>
        <p:spPr>
          <a:xfrm>
            <a:off x="1066680" y="1066680"/>
            <a:ext cx="7191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RƯỜNG TH VÂN KHÁNH ĐÔNG 1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11"/>
          <p:cNvSpPr txBox="1"/>
          <p:nvPr/>
        </p:nvSpPr>
        <p:spPr>
          <a:xfrm>
            <a:off x="990720" y="3809880"/>
            <a:ext cx="7315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VNI-Revue"/>
              </a:rPr>
              <a:t>MOÂN KHOA HOÏC LÔÙP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VNI-Revue"/>
              <a:ea typeface="VNI-Revue"/>
            </a:endParaRPr>
          </a:p>
        </p:txBody>
      </p:sp>
      <p:pic>
        <p:nvPicPr>
          <p:cNvPr id="368" name="Picture 8" descr="BLULINE"/>
          <p:cNvPicPr/>
          <p:nvPr/>
        </p:nvPicPr>
        <p:blipFill>
          <a:blip r:embed="rId5"/>
          <a:stretch/>
        </p:blipFill>
        <p:spPr>
          <a:xfrm rot="16200000">
            <a:off x="-3368520" y="3368520"/>
            <a:ext cx="6858000" cy="1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BLULINE"/>
          <p:cNvPicPr/>
          <p:nvPr/>
        </p:nvPicPr>
        <p:blipFill>
          <a:blip r:embed="rId6"/>
          <a:stretch/>
        </p:blipFill>
        <p:spPr>
          <a:xfrm rot="16200000">
            <a:off x="5654520" y="3368520"/>
            <a:ext cx="6858000" cy="12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BLULINE"/>
          <p:cNvPicPr/>
          <p:nvPr/>
        </p:nvPicPr>
        <p:blipFill>
          <a:blip r:embed="rId7"/>
          <a:stretch/>
        </p:blipFill>
        <p:spPr>
          <a:xfrm flipH="1">
            <a:off x="0" y="-720"/>
            <a:ext cx="9144000" cy="160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LULINE"/>
          <p:cNvPicPr/>
          <p:nvPr/>
        </p:nvPicPr>
        <p:blipFill>
          <a:blip r:embed="rId8"/>
          <a:stretch/>
        </p:blipFill>
        <p:spPr>
          <a:xfrm flipH="1">
            <a:off x="0" y="6697080"/>
            <a:ext cx="9144000" cy="160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6" descr="CHUOI"/>
          <p:cNvPicPr/>
          <p:nvPr/>
        </p:nvPicPr>
        <p:blipFill>
          <a:blip r:embed="rId9"/>
          <a:stretch/>
        </p:blipFill>
        <p:spPr>
          <a:xfrm>
            <a:off x="1219320" y="6172200"/>
            <a:ext cx="6858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4,-5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4,-5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1"/>
          <p:cNvPicPr/>
          <p:nvPr/>
        </p:nvPicPr>
        <p:blipFill>
          <a:blip r:embed="rId1"/>
          <a:stretch/>
        </p:blipFill>
        <p:spPr>
          <a:xfrm>
            <a:off x="152280" y="3124080"/>
            <a:ext cx="2895840" cy="24386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2"/>
          <p:cNvPicPr/>
          <p:nvPr/>
        </p:nvPicPr>
        <p:blipFill>
          <a:blip r:embed="rId2"/>
          <a:stretch/>
        </p:blipFill>
        <p:spPr>
          <a:xfrm>
            <a:off x="3124080" y="3124080"/>
            <a:ext cx="2895840" cy="2438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838080" y="5791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 tá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5" descr="hoa thu phan nho con trung"/>
          <p:cNvPicPr/>
          <p:nvPr/>
        </p:nvPicPr>
        <p:blipFill>
          <a:blip r:embed="rId3"/>
          <a:stretch/>
        </p:blipFill>
        <p:spPr>
          <a:xfrm>
            <a:off x="6095880" y="3124080"/>
            <a:ext cx="2895840" cy="243864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7"/>
          <p:cNvSpPr/>
          <p:nvPr/>
        </p:nvSpPr>
        <p:spPr>
          <a:xfrm>
            <a:off x="373392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 râm bụ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67057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 trâm ổ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21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304920" y="1752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ột số hoa thụ phấn nhờ côn trùng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a mướp, hoa táo, hoa trâm ổi, hoa phượng, hoa râm bụt, hoa cải, hoa mai, hoa tràm, hoa lan, hoa cúc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oa thu phan nho con trung"/>
          <p:cNvPicPr/>
          <p:nvPr/>
        </p:nvPicPr>
        <p:blipFill>
          <a:blip r:embed="rId1"/>
          <a:stretch/>
        </p:blipFill>
        <p:spPr>
          <a:xfrm>
            <a:off x="4724280" y="380880"/>
            <a:ext cx="4283280" cy="3124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hoa thu phan nho con trung4"/>
          <p:cNvPicPr/>
          <p:nvPr/>
        </p:nvPicPr>
        <p:blipFill>
          <a:blip r:embed="rId2"/>
          <a:stretch/>
        </p:blipFill>
        <p:spPr>
          <a:xfrm>
            <a:off x="228600" y="388800"/>
            <a:ext cx="4487760" cy="3116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hoa thu phan nho con trung"/>
          <p:cNvPicPr/>
          <p:nvPr/>
        </p:nvPicPr>
        <p:blipFill>
          <a:blip r:embed="rId3"/>
          <a:stretch/>
        </p:blipFill>
        <p:spPr>
          <a:xfrm>
            <a:off x="4724280" y="3505320"/>
            <a:ext cx="4267440" cy="3124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hoa thu phan nho con trung"/>
          <p:cNvPicPr/>
          <p:nvPr/>
        </p:nvPicPr>
        <p:blipFill>
          <a:blip r:embed="rId4"/>
          <a:stretch/>
        </p:blipFill>
        <p:spPr>
          <a:xfrm>
            <a:off x="228600" y="350532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Buom_T9_877"/>
          <p:cNvPicPr/>
          <p:nvPr/>
        </p:nvPicPr>
        <p:blipFill>
          <a:blip r:embed="rId5"/>
          <a:stretch/>
        </p:blipFill>
        <p:spPr>
          <a:xfrm>
            <a:off x="2362320" y="4114800"/>
            <a:ext cx="973080" cy="88416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7"/>
          <p:cNvGrpSpPr/>
          <p:nvPr/>
        </p:nvGrpSpPr>
        <p:grpSpPr>
          <a:xfrm>
            <a:off x="2590920" y="4952880"/>
            <a:ext cx="75960" cy="130320"/>
            <a:chOff x="2590920" y="4952880"/>
            <a:chExt cx="75960" cy="130320"/>
          </a:xfrm>
        </p:grpSpPr>
        <p:sp>
          <p:nvSpPr>
            <p:cNvPr id="491" name="Oval 8"/>
            <p:cNvSpPr/>
            <p:nvPr/>
          </p:nvSpPr>
          <p:spPr>
            <a:xfrm>
              <a:off x="2590920" y="495288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9"/>
            <p:cNvSpPr/>
            <p:nvPr/>
          </p:nvSpPr>
          <p:spPr>
            <a:xfrm>
              <a:off x="2590920" y="5039640"/>
              <a:ext cx="32400" cy="4356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0"/>
            <p:cNvSpPr/>
            <p:nvPr/>
          </p:nvSpPr>
          <p:spPr>
            <a:xfrm>
              <a:off x="2634480" y="4996080"/>
              <a:ext cx="32400" cy="4356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1"/>
          <p:cNvGrpSpPr/>
          <p:nvPr/>
        </p:nvGrpSpPr>
        <p:grpSpPr>
          <a:xfrm>
            <a:off x="2743200" y="4952880"/>
            <a:ext cx="217440" cy="289080"/>
            <a:chOff x="2743200" y="4952880"/>
            <a:chExt cx="217440" cy="289080"/>
          </a:xfrm>
        </p:grpSpPr>
        <p:sp>
          <p:nvSpPr>
            <p:cNvPr id="495" name="Oval 12"/>
            <p:cNvSpPr/>
            <p:nvPr/>
          </p:nvSpPr>
          <p:spPr>
            <a:xfrm>
              <a:off x="2819160" y="495288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3"/>
            <p:cNvSpPr/>
            <p:nvPr/>
          </p:nvSpPr>
          <p:spPr>
            <a:xfrm>
              <a:off x="2786760" y="519876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4"/>
            <p:cNvSpPr/>
            <p:nvPr/>
          </p:nvSpPr>
          <p:spPr>
            <a:xfrm>
              <a:off x="2819160" y="501048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5"/>
            <p:cNvSpPr/>
            <p:nvPr/>
          </p:nvSpPr>
          <p:spPr>
            <a:xfrm>
              <a:off x="2928240" y="501048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6"/>
            <p:cNvSpPr/>
            <p:nvPr/>
          </p:nvSpPr>
          <p:spPr>
            <a:xfrm>
              <a:off x="2884320" y="501048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7"/>
            <p:cNvSpPr/>
            <p:nvPr/>
          </p:nvSpPr>
          <p:spPr>
            <a:xfrm>
              <a:off x="2775600" y="506844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18"/>
            <p:cNvSpPr/>
            <p:nvPr/>
          </p:nvSpPr>
          <p:spPr>
            <a:xfrm>
              <a:off x="2743200" y="515520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9"/>
          <p:cNvGrpSpPr/>
          <p:nvPr/>
        </p:nvGrpSpPr>
        <p:grpSpPr>
          <a:xfrm>
            <a:off x="2666880" y="4952880"/>
            <a:ext cx="76320" cy="130320"/>
            <a:chOff x="2666880" y="4952880"/>
            <a:chExt cx="76320" cy="130320"/>
          </a:xfrm>
        </p:grpSpPr>
        <p:sp>
          <p:nvSpPr>
            <p:cNvPr id="503" name="Oval 20"/>
            <p:cNvSpPr/>
            <p:nvPr/>
          </p:nvSpPr>
          <p:spPr>
            <a:xfrm>
              <a:off x="2666880" y="4952880"/>
              <a:ext cx="3276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1"/>
            <p:cNvSpPr/>
            <p:nvPr/>
          </p:nvSpPr>
          <p:spPr>
            <a:xfrm>
              <a:off x="2666880" y="5039640"/>
              <a:ext cx="32760" cy="4356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2"/>
            <p:cNvSpPr/>
            <p:nvPr/>
          </p:nvSpPr>
          <p:spPr>
            <a:xfrm>
              <a:off x="2710440" y="4996080"/>
              <a:ext cx="32760" cy="4356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23"/>
          <p:cNvGrpSpPr/>
          <p:nvPr/>
        </p:nvGrpSpPr>
        <p:grpSpPr>
          <a:xfrm>
            <a:off x="2514600" y="5105520"/>
            <a:ext cx="217440" cy="288720"/>
            <a:chOff x="2514600" y="5105520"/>
            <a:chExt cx="217440" cy="288720"/>
          </a:xfrm>
        </p:grpSpPr>
        <p:sp>
          <p:nvSpPr>
            <p:cNvPr id="507" name="Oval 24"/>
            <p:cNvSpPr/>
            <p:nvPr/>
          </p:nvSpPr>
          <p:spPr>
            <a:xfrm>
              <a:off x="2590560" y="510552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5"/>
            <p:cNvSpPr/>
            <p:nvPr/>
          </p:nvSpPr>
          <p:spPr>
            <a:xfrm>
              <a:off x="2558160" y="535104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6"/>
            <p:cNvSpPr/>
            <p:nvPr/>
          </p:nvSpPr>
          <p:spPr>
            <a:xfrm>
              <a:off x="2590560" y="516312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7"/>
            <p:cNvSpPr/>
            <p:nvPr/>
          </p:nvSpPr>
          <p:spPr>
            <a:xfrm>
              <a:off x="2699640" y="516312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8"/>
            <p:cNvSpPr/>
            <p:nvPr/>
          </p:nvSpPr>
          <p:spPr>
            <a:xfrm>
              <a:off x="2655720" y="516312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9"/>
            <p:cNvSpPr/>
            <p:nvPr/>
          </p:nvSpPr>
          <p:spPr>
            <a:xfrm>
              <a:off x="2547000" y="522108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0"/>
            <p:cNvSpPr/>
            <p:nvPr/>
          </p:nvSpPr>
          <p:spPr>
            <a:xfrm>
              <a:off x="2514600" y="5307840"/>
              <a:ext cx="32400" cy="43200"/>
            </a:xfrm>
            <a:prstGeom prst="ellipse">
              <a:avLst/>
            </a:prstGeom>
            <a:solidFill>
              <a:srgbClr val="ffdb01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-0.03053 C 0.03715 -0.00671 0.0375 0.01735 0.03055 0.04349 C 0.02361 0.06963 0.00538 0.11959 -0.00434 0.12561 C -0.01406 0.13209 -0.01997 0.10086 -0.02813 0.08143 C -0.03629 0.06199 -0.06146 0.03747 -0.05347 0.00763 C -0.04549 -0.02221 -0.01528 -0.07726 0.01944 -0.09808 C 0.05417 -0.1189 0.09236 -0.08351 0.15451 -0.11728 C 0.21667 -0.15082 0.33437 -0.27943 0.39253 -0.30095 C 0.45069 -0.32269 0.46285 -0.22554 0.50364 -0.24798 C 0.54444 -0.27041 0.61927 -0.38284 0.63698 -0.43604 C 0.65469 -0.48924 0.63785 -0.55887 0.61007 -0.56697 C 0.58229 -0.57506 0.52621 -0.52972 0.47031 -0.48462 E">
                                      <p:cBhvr>
                                        <p:cTn id="566" dur="5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94 -0.04234 C 0.06111 -0.01851 0.06146 0.00555 0.05451 0.03169 C 0.04757 0.05783 0.02934 0.10779 0.01962 0.11381 C 0.0099 0.12028 0.00399 0.08905 -0.00417 0.06962 C -0.01233 0.05019 -0.0375 0.02567 -0.02951 -0.00417 C -0.02153 -0.03401 0.00868 -0.08906 0.0434 -0.10988 C 0.07813 -0.1307 0.11632 -0.09531 0.17847 -0.12908 C 0.24063 -0.16262 0.35833 -0.29124 0.41649 -0.31275 C 0.47465 -0.33449 0.48681 -0.23734 0.5276 -0.25978 C 0.5684 -0.28222 0.64323 -0.39464 0.66094 -0.44784 C 0.67865 -0.50105 0.66181 -0.57067 0.63403 -0.57877 C 0.60625 -0.58687 0.55017 -0.54153 0.49427 -0.49642 E">
                                      <p:cBhvr>
                                        <p:cTn id="568" dur="5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96 -0.02059 C 0.04513 0.00324 0.04548 0.0273 0.03854 0.05344 C 0.03159 0.07958 0.01336 0.12954 0.00364 0.13556 C -0.00608 0.14203 -0.01198 0.1108 -0.02014 0.09137 C -0.0283 0.07194 -0.05348 0.04742 -0.04549 0.01758 C -0.0375 -0.01226 -0.0073 -0.06731 0.02743 -0.08813 C 0.06215 -0.10895 0.10034 -0.07356 0.1625 -0.10733 C 0.22465 -0.14087 0.34236 -0.26949 0.40052 -0.291 C 0.45868 -0.31274 0.47083 -0.21559 0.51163 -0.23803 C 0.55243 -0.26047 0.62725 -0.37289 0.64496 -0.42609 C 0.66267 -0.4793 0.64583 -0.54892 0.61805 -0.55702 C 0.59027 -0.56512 0.5342 -0.51978 0.47829 -0.47467 E">
                                      <p:cBhvr>
                                        <p:cTn id="570" dur="5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61 -0.03123 C 0.05278 -0.00741 0.05313 0.01665 0.04618 0.04279 C 0.03924 0.06893 0.02101 0.11889 0.01129 0.12491 C 0.00157 0.13139 -0.00434 0.10016 -0.0125 0.08073 C -0.02066 0.0613 -0.04583 0.03678 -0.03784 0.00693 C -0.02986 -0.02291 0.000350000000000003 -0.07796 0.03507 -0.09878 C 0.0698 -0.1196 0.10799 -0.08421 0.17014 -0.11798 C 0.2323 -0.15152 0.35 -0.28013 0.40816 -0.30165 C 0.46632 -0.32339 0.47848 -0.22624 0.51927 -0.24867 C 0.56007 -0.27111 0.6349 -0.38353 0.65261 -0.43674 C 0.67032 -0.48994 0.65348 -0.55957 0.6257 -0.56767 C 0.59792 -0.57576 0.54184 -0.53042 0.48594 -0.48532 E">
                                      <p:cBhvr>
                                        <p:cTn id="572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96 -0.03169 C 0.07013 -0.00787 0.07048 0.01619 0.06354 0.04233 C 0.05659 0.06847 0.03836 0.11843 0.02864 0.12445 C 0.01892 0.13093 0.01302 0.0997 0.00486 0.08027 C -0.0033 0.06084 -0.02848 0.03632 -0.02049 0.00648 C -0.0125 -0.02337 0.0177 -0.07842 0.05243 -0.09924 C 0.08715 -0.12006 0.12534 -0.08467 0.1875 -0.11844 C 0.24965 -0.15198 0.36736 -0.28059 0.42552 -0.30211 C 0.48368 -0.32385 0.49583 -0.2267 0.53663 -0.24913 C 0.57743 -0.27157 0.65225 -0.38399 0.66996 -0.4372 C 0.68767 -0.4904 0.67083 -0.56003 0.64305 -0.56813 C 0.61527 -0.57622 0.5592 -0.53088 0.50329 -0.48578 E">
                                      <p:cBhvr>
                                        <p:cTn id="574" dur="5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4"/>
          <p:cNvSpPr/>
          <p:nvPr/>
        </p:nvSpPr>
        <p:spPr>
          <a:xfrm>
            <a:off x="457200" y="19051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ột số hoa thụ phấn nhờ gió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a lau, hoa sậy, hoa lúa, hoa ngô (bắp), hoa cỏ,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3"/>
          <p:cNvPicPr/>
          <p:nvPr/>
        </p:nvPicPr>
        <p:blipFill>
          <a:blip r:embed="rId1"/>
          <a:stretch/>
        </p:blipFill>
        <p:spPr>
          <a:xfrm>
            <a:off x="457200" y="2971800"/>
            <a:ext cx="3962520" cy="27432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6"/>
          <p:cNvSpPr/>
          <p:nvPr/>
        </p:nvSpPr>
        <p:spPr>
          <a:xfrm>
            <a:off x="1523880" y="5943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 l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WordArt 10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9" name="Picture 11" descr="00613_frostedcattails_1600x1200"/>
          <p:cNvPicPr/>
          <p:nvPr/>
        </p:nvPicPr>
        <p:blipFill>
          <a:blip r:embed="rId2"/>
          <a:stretch/>
        </p:blipFill>
        <p:spPr>
          <a:xfrm>
            <a:off x="4572000" y="29718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2"/>
          <p:cNvSpPr/>
          <p:nvPr/>
        </p:nvSpPr>
        <p:spPr>
          <a:xfrm>
            <a:off x="5943600" y="5943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 c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380880" y="1371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Các loài hoa thụ phấn nhờ côn trùng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thường có màu sắc sặc sỡ hoặc hương thơm hấp dẫn côn trù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WordArt 7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4" name="Picture 8" descr="o7"/>
          <p:cNvPicPr/>
          <p:nvPr/>
        </p:nvPicPr>
        <p:blipFill>
          <a:blip r:embed="rId1"/>
          <a:stretch/>
        </p:blipFill>
        <p:spPr>
          <a:xfrm>
            <a:off x="77760" y="220968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9"/>
          <p:cNvSpPr/>
          <p:nvPr/>
        </p:nvSpPr>
        <p:spPr>
          <a:xfrm>
            <a:off x="380880" y="2209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Các loài hoa thụ phấn nhờ gió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không có màu sắc đẹp, cánh hoa, đài hoa thường nhỏ hoặc không có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1" descr="o6"/>
          <p:cNvPicPr/>
          <p:nvPr/>
        </p:nvPicPr>
        <p:blipFill>
          <a:blip r:embed="rId2"/>
          <a:stretch/>
        </p:blipFill>
        <p:spPr>
          <a:xfrm>
            <a:off x="6040440" y="22096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00613_frostedcattails_1600x1200"/>
          <p:cNvPicPr/>
          <p:nvPr/>
        </p:nvPicPr>
        <p:blipFill>
          <a:blip r:embed="rId3"/>
          <a:stretch/>
        </p:blipFill>
        <p:spPr>
          <a:xfrm>
            <a:off x="6321600" y="3276720"/>
            <a:ext cx="2733480" cy="2666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3"/>
          <p:cNvPicPr/>
          <p:nvPr/>
        </p:nvPicPr>
        <p:blipFill>
          <a:blip r:embed="rId4"/>
          <a:stretch/>
        </p:blipFill>
        <p:spPr>
          <a:xfrm>
            <a:off x="85680" y="32767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5" descr="hoa thu phan nho con trung4"/>
          <p:cNvPicPr/>
          <p:nvPr/>
        </p:nvPicPr>
        <p:blipFill>
          <a:blip r:embed="rId5"/>
          <a:stretch/>
        </p:blipFill>
        <p:spPr>
          <a:xfrm>
            <a:off x="3054240" y="2209680"/>
            <a:ext cx="2889360" cy="30481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6" descr="IMG_0435"/>
          <p:cNvPicPr/>
          <p:nvPr/>
        </p:nvPicPr>
        <p:blipFill>
          <a:blip r:embed="rId6"/>
          <a:stretch/>
        </p:blipFill>
        <p:spPr>
          <a:xfrm>
            <a:off x="3168720" y="3287880"/>
            <a:ext cx="3047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533520" y="2209680"/>
            <a:ext cx="77724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em hãy giới thiệu tranh ảnh về các loài hoa (hoặc hoa thật) mà các em đã sưu tầm được ở nhà cho các bạn trong lớp cùng biết v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 Tên của loài hoa đó là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 Hoa thụ phấn nhờ côn trùng hay thụ phấn nhờ gió, hoa có đặc điểm gì nổi bậ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 Hoa có lợi ích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8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457200" y="1676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ạt động 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914400" y="182880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Các em hãy nhắc lại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ột số loài hoa thụ phấn nhờ côn trùng, một số loài hoa thụ phấn nhờ gió và nêu đặc điểm nổi bật của chú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8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411120" y="1600200"/>
            <a:ext cx="881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ột số hoa thụ phấn nhờ côn trùng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a mướp, hoa táo, hoa trâm ổi, hoa phượng, hoa râm bụt, hoa cải, hoa mai, hoa tràm, hoa lan, hoa cúc,…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thường có màu sắc sặc sỡ hoặc hương thơm hấp dẫn côn trù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380880" y="3124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ột số hoa thụ phấn nhờ gió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a lau, hoa sậy, hoa lúa, hoa ngô (bắp), hoa cỏ,….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không có màu sắc đẹp, cánh hoa, đài hoa thường nhỏ hoặc không có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>
            <a:off x="533520" y="4419720"/>
            <a:ext cx="7924680" cy="228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6b5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ó rất nhiều loài hoa đẹp, mỗi loài hoa đều có nhữ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ợi ích riêng, các em hãy biết vun trồng, chăm só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ảo vệ chúng, để chúng luôn mang lạ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hững lợi ích cho con ngườ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457200" y="25146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VỀ NH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em xem lại bài, tìm hiểu về sự thụ phấn của các loài hoa và chuẩn bị bài sau: “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ây con mọc lên từ hạ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6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OFFOB008"/>
          <p:cNvPicPr/>
          <p:nvPr/>
        </p:nvPicPr>
        <p:blipFill>
          <a:blip r:embed="rId1"/>
          <a:stretch/>
        </p:blipFill>
        <p:spPr>
          <a:xfrm>
            <a:off x="2209680" y="2936880"/>
            <a:ext cx="3962520" cy="31813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1676520" y="160020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Arial"/>
              </a:rPr>
              <a:t>Chóc c¸c em häc sinh     häc tËp tèt</a:t>
            </a:r>
            <a:r>
              <a:rPr b="0" lang="en-US" sz="4000" spc="-1" strike="noStrike">
                <a:solidFill>
                  <a:srgbClr val="000000"/>
                </a:solidFill>
                <a:latin typeface=".VnMystic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0" y="4572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IỜ HỌC ĐẾN ĐÂY KẾT THÚ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690739pesbqr6dqw"/>
          <p:cNvPicPr/>
          <p:nvPr/>
        </p:nvPicPr>
        <p:blipFill>
          <a:blip r:embed="rId2"/>
          <a:stretch/>
        </p:blipFill>
        <p:spPr>
          <a:xfrm>
            <a:off x="6248520" y="3200400"/>
            <a:ext cx="3557520" cy="1981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3"/>
          <a:stretch/>
        </p:blipFill>
        <p:spPr>
          <a:xfrm>
            <a:off x="762012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"/>
          <p:cNvPicPr/>
          <p:nvPr/>
        </p:nvPicPr>
        <p:blipFill>
          <a:blip r:embed="rId4"/>
          <a:stretch/>
        </p:blipFill>
        <p:spPr>
          <a:xfrm>
            <a:off x="0" y="556272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690739pesbqr6dqw"/>
          <p:cNvPicPr/>
          <p:nvPr/>
        </p:nvPicPr>
        <p:blipFill>
          <a:blip r:embed="rId5"/>
          <a:stretch/>
        </p:blipFill>
        <p:spPr>
          <a:xfrm>
            <a:off x="0" y="3276720"/>
            <a:ext cx="3557520" cy="16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69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4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05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838080" y="0"/>
            <a:ext cx="7925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447920" y="1143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Kiểm tra bài cũ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1600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ỉ và nêu tên các bộ phận của nhị và nhụy trên sơ đồ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4"/>
          <p:cNvSpPr/>
          <p:nvPr/>
        </p:nvSpPr>
        <p:spPr>
          <a:xfrm>
            <a:off x="4038480" y="2286000"/>
            <a:ext cx="13716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o phấ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5" descr="12"/>
          <p:cNvPicPr/>
          <p:nvPr/>
        </p:nvPicPr>
        <p:blipFill>
          <a:blip r:embed="rId1"/>
          <a:stretch/>
        </p:blipFill>
        <p:spPr>
          <a:xfrm>
            <a:off x="2438280" y="2743200"/>
            <a:ext cx="3733920" cy="38876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6"/>
          <p:cNvSpPr/>
          <p:nvPr/>
        </p:nvSpPr>
        <p:spPr>
          <a:xfrm>
            <a:off x="2133720" y="2666880"/>
            <a:ext cx="1546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Đầu nhụ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7"/>
          <p:cNvSpPr/>
          <p:nvPr/>
        </p:nvSpPr>
        <p:spPr>
          <a:xfrm>
            <a:off x="2314440" y="3828960"/>
            <a:ext cx="15242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Ống phấ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9"/>
          <p:cNvSpPr/>
          <p:nvPr/>
        </p:nvSpPr>
        <p:spPr>
          <a:xfrm>
            <a:off x="1219320" y="4772160"/>
            <a:ext cx="1295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ầu nhụ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0"/>
          <p:cNvSpPr/>
          <p:nvPr/>
        </p:nvSpPr>
        <p:spPr>
          <a:xfrm>
            <a:off x="1724040" y="5438880"/>
            <a:ext cx="838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1"/>
          <p:cNvSpPr/>
          <p:nvPr/>
        </p:nvSpPr>
        <p:spPr>
          <a:xfrm>
            <a:off x="5715000" y="4343400"/>
            <a:ext cx="1143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ỉ nh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2"/>
          <p:cNvSpPr/>
          <p:nvPr/>
        </p:nvSpPr>
        <p:spPr>
          <a:xfrm>
            <a:off x="2085840" y="4314960"/>
            <a:ext cx="990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ỉ nh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3"/>
          <p:cNvSpPr/>
          <p:nvPr/>
        </p:nvSpPr>
        <p:spPr>
          <a:xfrm>
            <a:off x="3657600" y="28954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5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52280" y="1905120"/>
            <a:ext cx="853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ện tượng đầu nhụy nhận được những hạt phấn của nhị gọi là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) Sự thụ phấ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) 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100080" y="2819520"/>
            <a:ext cx="858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ện tượng tế bào sinh dục đực ở đầu ống phấn kết hợp với tế bào sinh dục cái của noãn gọi là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) Sự thụ phấ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) 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76320" y="396252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ợp tử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) Hạ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) Phô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98280" y="487692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ãn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) Hạ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)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98280" y="5791320"/>
            <a:ext cx="4953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ầu nhụy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) Hạ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)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3"/>
          <p:cNvSpPr/>
          <p:nvPr/>
        </p:nvSpPr>
        <p:spPr>
          <a:xfrm>
            <a:off x="5105520" y="4343400"/>
            <a:ext cx="4038480" cy="2514600"/>
          </a:xfrm>
          <a:prstGeom prst="cloudCallout">
            <a:avLst>
              <a:gd name="adj1" fmla="val -17611"/>
              <a:gd name="adj2" fmla="val -91731"/>
            </a:avLst>
          </a:prstGeom>
          <a:solidFill>
            <a:srgbClr val="727ca3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em hãy đọc thầm phần thông tin, quan sát hình 1SGK/106, suy nghĩ cá nhân (4’), làm các bài tập trê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457200" y="1447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ạt động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419720" y="3429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ế bào sinh dục cá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4419720" y="4724280"/>
            <a:ext cx="22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ầu nhụ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8" descr="13"/>
          <p:cNvPicPr/>
          <p:nvPr/>
        </p:nvPicPr>
        <p:blipFill>
          <a:blip r:embed="rId1"/>
          <a:stretch/>
        </p:blipFill>
        <p:spPr>
          <a:xfrm>
            <a:off x="1447920" y="1905120"/>
            <a:ext cx="3047760" cy="39384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9"/>
          <p:cNvSpPr/>
          <p:nvPr/>
        </p:nvSpPr>
        <p:spPr>
          <a:xfrm>
            <a:off x="4495680" y="4038480"/>
            <a:ext cx="22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3505320" y="1828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ạt phấ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505320" y="2362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Ống phấ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22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4038480" y="2971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ế bào sinh dục đự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4"/>
          <p:cNvSpPr/>
          <p:nvPr/>
        </p:nvSpPr>
        <p:spPr>
          <a:xfrm>
            <a:off x="2895480" y="6172200"/>
            <a:ext cx="381240" cy="304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262080" y="144792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 Hiện tượng đầu nhụy nhận được những hạt phấn của nhị gọi là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ự thụ phấ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) 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260280" y="144792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 Hiện tượng tế bào sinh dục đực ở đầu ống phấn kết hợp với tế bào sinh dục cái của noãn gọi là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Sự thụ phấ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) 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93760" y="146844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 Hợp tử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ạ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) Phô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00" y="1447920"/>
            <a:ext cx="8763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/ Noãn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) Hạ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282600" y="1438200"/>
            <a:ext cx="800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/ Bầu nhụy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ạ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)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16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912240" y="5486400"/>
            <a:ext cx="32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ãn phát triển thành h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1065240" y="419112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ầu phát triển thành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9" descr="1"/>
          <p:cNvPicPr/>
          <p:nvPr/>
        </p:nvPicPr>
        <p:blipFill>
          <a:blip r:embed="rId1"/>
          <a:stretch/>
        </p:blipFill>
        <p:spPr>
          <a:xfrm>
            <a:off x="4267080" y="2590920"/>
            <a:ext cx="2590920" cy="452592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0"/>
          <p:cNvSpPr/>
          <p:nvPr/>
        </p:nvSpPr>
        <p:spPr>
          <a:xfrm>
            <a:off x="5867280" y="4572000"/>
            <a:ext cx="2362320" cy="533520"/>
          </a:xfrm>
          <a:prstGeom prst="leftArrow">
            <a:avLst>
              <a:gd name="adj1" fmla="val 62963"/>
              <a:gd name="adj2" fmla="val 144621"/>
            </a:avLst>
          </a:prstGeom>
          <a:solidFill>
            <a:srgbClr val="6b56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1676520" y="2743200"/>
            <a:ext cx="3124080" cy="685800"/>
          </a:xfrm>
          <a:prstGeom prst="rightArrow">
            <a:avLst>
              <a:gd name="adj1" fmla="val 50000"/>
              <a:gd name="adj2" fmla="val 113885"/>
            </a:avLst>
          </a:prstGeom>
          <a:solidFill>
            <a:srgbClr val="ff99cc"/>
          </a:solidFill>
          <a:ln w="9360">
            <a:solidFill>
              <a:srgbClr val="6b5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ự thụ phấ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2"/>
          <p:cNvSpPr/>
          <p:nvPr/>
        </p:nvSpPr>
        <p:spPr>
          <a:xfrm flipV="1">
            <a:off x="4191120" y="5181480"/>
            <a:ext cx="129528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3"/>
          <p:cNvSpPr/>
          <p:nvPr/>
        </p:nvSpPr>
        <p:spPr>
          <a:xfrm>
            <a:off x="4191120" y="4495680"/>
            <a:ext cx="914400" cy="30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4"/>
          <p:cNvSpPr/>
          <p:nvPr/>
        </p:nvSpPr>
        <p:spPr>
          <a:xfrm>
            <a:off x="4876920" y="2895480"/>
            <a:ext cx="75960" cy="28440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5"/>
          <p:cNvSpPr/>
          <p:nvPr/>
        </p:nvSpPr>
        <p:spPr>
          <a:xfrm flipH="1">
            <a:off x="6019560" y="2895480"/>
            <a:ext cx="152280" cy="30492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5486400" y="3144960"/>
            <a:ext cx="0" cy="7596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7"/>
          <p:cNvSpPr/>
          <p:nvPr/>
        </p:nvSpPr>
        <p:spPr>
          <a:xfrm>
            <a:off x="5502240" y="4962600"/>
            <a:ext cx="0" cy="7596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5497560" y="3048120"/>
            <a:ext cx="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250920" y="146988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 Hiện tượng đầu nhụy nhận được những hạt phấn của nhị gọi là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ự thụ phấ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) 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1"/>
          <p:cNvSpPr/>
          <p:nvPr/>
        </p:nvSpPr>
        <p:spPr>
          <a:xfrm>
            <a:off x="228600" y="137160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 Hiện tượng tế bào sinh dục đực ở đầu ống phấn kết hợp với tế bào sinh dục cái của noãn gọi là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Sự thụ phấ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ự thụ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304920" y="144792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/ Hợp tử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ạ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Phô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250920" y="1459080"/>
            <a:ext cx="8762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/ Noãn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ạ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4"/>
          <p:cNvSpPr/>
          <p:nvPr/>
        </p:nvSpPr>
        <p:spPr>
          <a:xfrm>
            <a:off x="271440" y="1428840"/>
            <a:ext cx="800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/ Bầu nhụy phát triển thành gì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ạ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972 C 0.01181 -0.05066 0.02361 -0.09022 0.03403 -0.08652 C 0.04462 -0.08143 0.05729 0.00115 0.0625 0.0192 E">
                                      <p:cBhvr>
                                        <p:cTn id="216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0972 C -0.01736 -0.05066 -0.02848 -0.09022 -0.0382 -0.08652 C -0.04792 -0.08189 -0.0599 0.000920000000000001 -0.06441 0.01943 E">
                                      <p:cBhvr>
                                        <p:cTn id="221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0208 L 0.00122 0.26694 E">
                                      <p:cBhvr>
                                        <p:cTn id="255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5"/>
          <p:cNvSpPr/>
          <p:nvPr/>
        </p:nvSpPr>
        <p:spPr>
          <a:xfrm>
            <a:off x="1371600" y="16002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609480" y="190512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iện tượng đầu nhụy nhận được những hạt phấn của nhị gọi l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ự thụ phấ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iện tượng tế bào sinh dục đực ở đầu ống phấn kết hợp với tế bào sinh dục cái của noãn gọi l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ự thụ tin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ợp tử phát triển thàn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hô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ãn phát triển thàn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ạ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ầu nhụy phát triển thàn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8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80880" y="1905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ép các tấm phiếu có nội dung dưới đây vào hình cho phù hợ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57200" y="3352680"/>
            <a:ext cx="167652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Ống ph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" y="4038480"/>
            <a:ext cx="167652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Bao ph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57200" y="2743200"/>
            <a:ext cx="167652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Hạt ph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362320" y="2819520"/>
            <a:ext cx="167616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Đầu nhụ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2362320" y="3505320"/>
            <a:ext cx="167616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No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2362320" y="4191120"/>
            <a:ext cx="167616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Vòi nhụ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57200" y="4648320"/>
            <a:ext cx="167652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Bầu nhụ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6"/>
          <p:cNvSpPr/>
          <p:nvPr/>
        </p:nvSpPr>
        <p:spPr>
          <a:xfrm>
            <a:off x="1523880" y="5334120"/>
            <a:ext cx="3353040" cy="1218960"/>
          </a:xfrm>
          <a:prstGeom prst="wedgeRoundRectCallout">
            <a:avLst>
              <a:gd name="adj1" fmla="val 2037"/>
              <a:gd name="adj2" fmla="val -85027"/>
              <a:gd name="adj3" fmla="val 16667"/>
            </a:avLst>
          </a:prstGeom>
          <a:solidFill>
            <a:srgbClr val="727ca3"/>
          </a:solidFill>
          <a:ln cap="rnd" w="38160">
            <a:solidFill>
              <a:srgbClr val="cc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em hãy thảo luận nhóm 4, thi đua là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ài tập tr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2" descr="14"/>
          <p:cNvPicPr/>
          <p:nvPr/>
        </p:nvPicPr>
        <p:blipFill>
          <a:blip r:embed="rId1"/>
          <a:stretch/>
        </p:blipFill>
        <p:spPr>
          <a:xfrm>
            <a:off x="5257800" y="2536920"/>
            <a:ext cx="2879640" cy="43210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33"/>
          <p:cNvSpPr/>
          <p:nvPr/>
        </p:nvSpPr>
        <p:spPr>
          <a:xfrm>
            <a:off x="4419720" y="2590920"/>
            <a:ext cx="85392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4419720" y="4267080"/>
            <a:ext cx="85392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419720" y="3505320"/>
            <a:ext cx="85392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8153280" y="4495680"/>
            <a:ext cx="85428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8153280" y="5105520"/>
            <a:ext cx="85428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8153280" y="2590920"/>
            <a:ext cx="85428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8153280" y="3352680"/>
            <a:ext cx="85428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40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Text Box 42"/>
          <p:cNvSpPr/>
          <p:nvPr/>
        </p:nvSpPr>
        <p:spPr>
          <a:xfrm>
            <a:off x="380880" y="1447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ạt động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ò chơi 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hép chữ vào hìn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14"/>
          <p:cNvPicPr/>
          <p:nvPr/>
        </p:nvPicPr>
        <p:blipFill>
          <a:blip r:embed="rId1"/>
          <a:stretch/>
        </p:blipFill>
        <p:spPr>
          <a:xfrm>
            <a:off x="3048120" y="1828800"/>
            <a:ext cx="2879640" cy="43210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1600200" y="1905120"/>
            <a:ext cx="14050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Hạt phấ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600200" y="2819520"/>
            <a:ext cx="14050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Vòi nhụ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600200" y="3657600"/>
            <a:ext cx="14050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Ống phấ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943600" y="1828800"/>
            <a:ext cx="14050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Đầu nhụ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5943600" y="2590920"/>
            <a:ext cx="14050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Bao phấ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5943600" y="3809880"/>
            <a:ext cx="14050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No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6019920" y="4495680"/>
            <a:ext cx="1404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Bầu nhụ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14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228600" y="4648320"/>
            <a:ext cx="2666880" cy="1447560"/>
          </a:xfrm>
          <a:prstGeom prst="ellipse">
            <a:avLst/>
          </a:prstGeom>
          <a:solidFill>
            <a:srgbClr val="727ca3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ác nhó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ình bày kết qu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1981080" y="1905120"/>
            <a:ext cx="99072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1981080" y="3581280"/>
            <a:ext cx="100656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1981080" y="2819520"/>
            <a:ext cx="100656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5943600" y="3809880"/>
            <a:ext cx="114300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5943600" y="4419720"/>
            <a:ext cx="114300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5943600" y="1905120"/>
            <a:ext cx="106668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>
            <a:off x="5943600" y="2666880"/>
            <a:ext cx="1066680" cy="376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4"/>
          <p:cNvSpPr/>
          <p:nvPr/>
        </p:nvSpPr>
        <p:spPr>
          <a:xfrm>
            <a:off x="838080" y="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ứ  hai ngày 10 tháng 2 năm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hoa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à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228600" y="205740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Kể tên một số hoa thụ phấn nhờ côn trùng và một số hoa thụ phấn nhờ gió mà bạn biế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Bạn có nhận xét gì về màu sắc hoặc hương thơm của hoa thụ phấn nhờ côn trùng và hoa thụ phấn nhờ gi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1676520" y="4419720"/>
            <a:ext cx="6629400" cy="1523880"/>
          </a:xfrm>
          <a:prstGeom prst="wedgeEllipseCallout">
            <a:avLst>
              <a:gd name="adj1" fmla="val -26749"/>
              <a:gd name="adj2" fmla="val -76564"/>
            </a:avLst>
          </a:prstGeom>
          <a:solidFill>
            <a:srgbClr val="ffff99"/>
          </a:solidFill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em hãy quan sát hình 3, 4, 5/SGK, kết hợp hiểu biết của mình và thảo luận nhóm đôi (4’) để trả lời các câu hỏi trê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8"/>
          <p:cNvSpPr txBox="1"/>
          <p:nvPr/>
        </p:nvSpPr>
        <p:spPr>
          <a:xfrm>
            <a:off x="2057400" y="914400"/>
            <a:ext cx="563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SỰ SINH SẢN CỦA THỰC VẬT CÓ HOA</a:t>
            </a:r>
            <a:endParaRPr b="0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380880" y="1600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ạt động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3124080" y="4495680"/>
            <a:ext cx="3657600" cy="947160"/>
          </a:xfrm>
          <a:prstGeom prst="rect">
            <a:avLst/>
          </a:prstGeom>
          <a:noFill/>
          <a:ln w="2844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ác nhóm hãy báo cáo kết quả thảo lu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2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07:11:03Z</dcterms:created>
  <dc:creator>Administrator</dc:creator>
  <dc:description/>
  <dc:language>en-US</dc:language>
  <cp:lastModifiedBy>Administrator</cp:lastModifiedBy>
  <dcterms:modified xsi:type="dcterms:W3CDTF">2014-02-13T03:00:05Z</dcterms:modified>
  <cp:revision>10</cp:revision>
  <dc:subject/>
  <dc:title>Slide 1</dc:title>
</cp:coreProperties>
</file>